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FA5-015F-4194-9065-F7BFC028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232-FE51-41AF-90BE-90150220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0DAF-741A-43BE-8FE0-0BA9AB80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743-0D2E-4143-B6D7-9AEBE4B3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214-EE38-407B-A87E-8A423811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674C-F251-4A65-A12B-B4A2A1B03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EDD-71E5-428D-AB06-05FBC4E3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AEAB-9B82-4E44-8B1B-D24F54BC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B4D7-2EA0-4DF3-92D0-83C63EC6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otocro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066680" y="350532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sson 4.1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Basic Marketing Con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638680" y="63244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5"/>
          <p:cNvSpPr/>
          <p:nvPr/>
        </p:nvSpPr>
        <p:spPr>
          <a:xfrm>
            <a:off x="762120" y="3054600"/>
            <a:ext cx="441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hilosophy that a company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success is ultimately dependent upon efficient identification of consumer needs and wants and the ability to satisfy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057400" y="9144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rketing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85800" y="2438280"/>
            <a:ext cx="7696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37440" y="160020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arketing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429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"/>
          <p:cNvSpPr/>
          <p:nvPr/>
        </p:nvSpPr>
        <p:spPr>
          <a:xfrm>
            <a:off x="304920" y="251064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Financial success is a direct result of 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organization</a:t>
            </a:r>
            <a:r>
              <a:rPr b="0" lang="ja-JP" sz="2400" spc="-1" strike="noStrike">
                <a:solidFill>
                  <a:srgbClr val="008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 ability to effectively market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 business achieves profitability when they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he goods and services that customers ne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want at the righ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Marketers strive to identify and understand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factors that influence consumer buy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057400" y="9144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rketing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685800" y="2286000"/>
            <a:ext cx="7696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951920" y="160020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Why Is Marketing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6"/>
          <p:cNvSpPr/>
          <p:nvPr/>
        </p:nvSpPr>
        <p:spPr>
          <a:xfrm>
            <a:off x="4572000" y="1752480"/>
            <a:ext cx="3886200" cy="32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wa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simply something you would like to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ight want a Xbox One or tickets to an upcoming game, but you can survive with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961000" y="91440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s vs. W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67080" y="1676520"/>
            <a:ext cx="0" cy="44956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80880" y="1752480"/>
            <a:ext cx="3733920" cy="32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something you have to have and that you cannot do wit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xample, we need food.  Without eating, we cannot surv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"/>
          <p:cNvPicPr/>
          <p:nvPr/>
        </p:nvPicPr>
        <p:blipFill>
          <a:blip r:embed="rId1"/>
          <a:stretch/>
        </p:blipFill>
        <p:spPr>
          <a:xfrm>
            <a:off x="1295280" y="5334120"/>
            <a:ext cx="1490760" cy="11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4495680" y="5562720"/>
            <a:ext cx="1219320" cy="898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3"/>
          <a:stretch/>
        </p:blipFill>
        <p:spPr>
          <a:xfrm>
            <a:off x="7696080" y="5410080"/>
            <a:ext cx="1447920" cy="1060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2" descr="800px-Wii-Logo"/>
          <p:cNvPicPr/>
          <p:nvPr/>
        </p:nvPicPr>
        <p:blipFill>
          <a:blip r:embed="rId4"/>
          <a:stretch/>
        </p:blipFill>
        <p:spPr>
          <a:xfrm>
            <a:off x="6019920" y="5715000"/>
            <a:ext cx="13716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5"/>
          <p:cNvSpPr/>
          <p:nvPr/>
        </p:nvSpPr>
        <p:spPr>
          <a:xfrm>
            <a:off x="4724280" y="1901160"/>
            <a:ext cx="403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xchange Proces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ing transac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which the bu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someth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 to the sell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for good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ces that meet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needs or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285280" y="914400"/>
            <a:ext cx="44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xchange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52280" y="190512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Must be at least two parties involved in  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ome means of  communication must be present between all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ach party must be free to accept or decline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4648320" y="1828800"/>
            <a:ext cx="0" cy="4343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2550960" y="914400"/>
            <a:ext cx="43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nefits of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80880" y="1675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marketing process serves many purposes and provides numerous benefits for the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04920" y="2895480"/>
            <a:ext cx="8610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he ability to add perceived value to good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Making the buying process easy and convenient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reating and maintaining reasonabl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Offering a variety of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Increasing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6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8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295280"/>
            <a:ext cx="1670040" cy="78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4.1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600200" y="1371600"/>
            <a:ext cx="7391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marketing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he marketing concept is the view that an organization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 ability to sell its products and services depends upon the effective identification of consumer needs and wants and a successful determination of how best to satis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1:54:05Z</dcterms:created>
  <dc:creator>Copyright © 2012 by Sports Career Consulting, LLC</dc:creator>
  <dc:description/>
  <dc:language>en-US</dc:language>
  <cp:lastModifiedBy>Chris Lindauer</cp:lastModifiedBy>
  <dcterms:modified xsi:type="dcterms:W3CDTF">2020-08-14T23:43:46Z</dcterms:modified>
  <cp:revision>410</cp:revision>
  <dc:subject/>
  <dc:title>Lesson 4.1 - Slides-Basic Marketing Concept</dc:title>
</cp:coreProperties>
</file>