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CDB-0605-4355-AC09-1E4C2211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129-60E0-4653-9B1E-782761C6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D81-CE3B-4B63-98E0-CCEAF28C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F5C-43CA-4FBB-BB16-F856F0D3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C5C-07DC-432F-AEF9-70BD645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A66-F326-4088-A2DA-3E5E10C5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8A9-36F6-4723-98F2-2B55CC52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140-A470-4585-A6D2-5389E1C4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085-775D-4B09-A292-B20D881D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FCE-E25C-4866-B12A-9E88F456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C75-AFB4-4355-BA3C-F9CC54F0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FB1-F959-40EC-829E-6A7BAC0D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5086-23F7-4434-BB8E-6E2C5F68A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5943600" cy="83844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ook Antiqua"/>
              </a:rPr>
              <a:t>New Olympic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Book Antiqua"/>
              </a:rPr>
              <a:t>Spor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5943600" cy="7620120"/>
          </a:xfrm>
          <a:prstGeom prst="rect">
            <a:avLst/>
          </a:prstGeom>
          <a:solidFill>
            <a:srgbClr val="e5fa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</a:rPr>
              <a:t>Project Descrip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hoose a partner in class with whom to work with on this project.  You are responsible f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reating a new sport to be introduced as a competition at the next Olympic Games.  You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ay choose either Winter or Summer Games.  As part of this process, you will also b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dentifying potential sponsors for the new event.  Be sure to include as many details a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ossible about your new sport and explain why you think the companies you selected woul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ant to support the new event financially through a sponsorship.  You will also need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esent the information below from the project requireme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at are some of the rules and why would this make a good Olympic sport/event?  Identif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he target market of your new sport/event, who is likely to be a fan of this event, and sele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ppropriate sponsors with your target market in mind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</a:rPr>
              <a:t>Project Requir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at is your new sport/even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at is it calle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plain how it works (are there quarters, innings, et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at are the rul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y would this be a good event for the Olympic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ill people tune in to watch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o is the target market for this sport/even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emographics? (Age income levels, education levels, gender,et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y will your event/game appeal to this particular group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s a target market important to sponsors?  To television networks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ill others outside your target audience be interested in following your event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r game?  Why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dentify potential sponsors for your new Olympic sport/ev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sider sponsor categories (cars, insurance, shoes, soft drinks, et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y would they be likely sponsors of your new sport/even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oes it matter whether people are tuning in to watch this new even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ow will advertising play a role in sponsor development strategi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</a:rPr>
              <a:t>Presen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You will have 3 minutes to present your new sport/event to the class.  You must use visu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ids as part of your presentation as well as a written report to turn in.  Remember, your n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port/event can be either for the Summer or Winter Olympic Gam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6320" cy="9144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0"/>
            <a:ext cx="7632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0"/>
            <a:ext cx="76320" cy="9144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0"/>
            <a:ext cx="7632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76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915400"/>
            <a:ext cx="685800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8991720"/>
            <a:ext cx="582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2008 by Sports Career Consulting, LLC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89917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914400" cy="46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4120" y="304920"/>
            <a:ext cx="91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1:10:33Z</dcterms:created>
  <dc:creator>Copyright © 2008 by Sports Career Consulting, LLC.  All Rights Reserved.</dc:creator>
  <dc:description/>
  <dc:language>en-US</dc:language>
  <cp:lastModifiedBy>Chris Lindauer</cp:lastModifiedBy>
  <dcterms:modified xsi:type="dcterms:W3CDTF">2008-08-20T17:03:42Z</dcterms:modified>
  <cp:revision>45</cp:revision>
  <dc:subject>Copyright © 2008 by Sports Career Consulting, LLC.  All Rights Reserved.</dc:subject>
  <dc:title>New Olympic Sport</dc:title>
</cp:coreProperties>
</file>