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8733-AF20-491F-9B76-0A429BEF1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FA7E-C8C1-46A5-96A5-7A11FDD1D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6695-37C6-4DF4-81D9-37E522A84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B3D6-5FA8-4D8C-B95A-9A415F3A6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4335-2A76-4B0F-94D3-CC23D8435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5698-D1FB-406A-AF46-1B0BE5C67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0C9A-5E1D-4BFA-B1F5-6DF405C23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39080" y="0"/>
            <a:ext cx="304920" cy="6834240"/>
          </a:xfrm>
          <a:prstGeom prst="rect">
            <a:avLst/>
          </a:prstGeom>
          <a:solidFill>
            <a:srgbClr val="065e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-23760" y="0"/>
            <a:ext cx="1689120" cy="6834240"/>
          </a:xfrm>
          <a:prstGeom prst="rect">
            <a:avLst/>
          </a:prstGeom>
          <a:solidFill>
            <a:srgbClr val="005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-34920" y="0"/>
            <a:ext cx="917892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508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0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000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Line 4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77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>
            <a:hlinkClick r:id="rId2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6553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Motocros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066680" y="350532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esson 4.2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Marketing Mix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638680" y="63244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91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4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Marketing Appl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6"/>
          <p:cNvSpPr/>
          <p:nvPr/>
        </p:nvSpPr>
        <p:spPr>
          <a:xfrm>
            <a:off x="2723040" y="914400"/>
            <a:ext cx="386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arketing Mi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5029200" y="266688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Marketing Mi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sts of variables controlled by marketing professionals in 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ffort to satisfy the target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TARGET"/>
          <p:cNvPicPr/>
          <p:nvPr/>
        </p:nvPicPr>
        <p:blipFill>
          <a:blip r:embed="rId1"/>
          <a:stretch/>
        </p:blipFill>
        <p:spPr>
          <a:xfrm>
            <a:off x="457200" y="2133720"/>
            <a:ext cx="373392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98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4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Marketing Appl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6"/>
          <p:cNvSpPr/>
          <p:nvPr/>
        </p:nvSpPr>
        <p:spPr>
          <a:xfrm>
            <a:off x="2286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od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28600" y="3124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28600" y="4267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28600" y="54864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o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609640" y="914400"/>
            <a:ext cx="37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arketing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48120" y="190368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Involves the goods, services, or ideas used to satisfy consumer nee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2971800" y="30466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Verdana"/>
                <a:ea typeface="Times New Roman"/>
              </a:rPr>
              <a:t>Determined by what customers are willing to pay and produc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3048120" y="41896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Involves the process of making the product available to the custom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3048120" y="540864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Involve how the goods or services are communicated to the consum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152280" y="2666880"/>
            <a:ext cx="8763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might the marketing mix apply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lson Sporting Good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 effort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ximize sales of tennis racqu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TN00537_[1]"/>
          <p:cNvPicPr/>
          <p:nvPr/>
        </p:nvPicPr>
        <p:blipFill>
          <a:blip r:embed="rId1"/>
          <a:stretch/>
        </p:blipFill>
        <p:spPr>
          <a:xfrm>
            <a:off x="7620120" y="990720"/>
            <a:ext cx="1266840" cy="1447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TN00537_[1]"/>
          <p:cNvPicPr/>
          <p:nvPr/>
        </p:nvPicPr>
        <p:blipFill>
          <a:blip r:embed="rId2"/>
          <a:stretch/>
        </p:blipFill>
        <p:spPr>
          <a:xfrm>
            <a:off x="228600" y="990720"/>
            <a:ext cx="1266840" cy="1447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8"/>
          <p:cNvSpPr/>
          <p:nvPr/>
        </p:nvSpPr>
        <p:spPr>
          <a:xfrm>
            <a:off x="2666880" y="9907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scussion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15" name="Text Box 12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4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3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Marketing Appl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15" descr="p1674439reg"/>
          <p:cNvPicPr/>
          <p:nvPr/>
        </p:nvPicPr>
        <p:blipFill>
          <a:blip r:embed="rId3"/>
          <a:stretch/>
        </p:blipFill>
        <p:spPr>
          <a:xfrm>
            <a:off x="5486400" y="434340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wilson-logo"/>
          <p:cNvPicPr/>
          <p:nvPr/>
        </p:nvPicPr>
        <p:blipFill>
          <a:blip r:embed="rId4"/>
          <a:stretch/>
        </p:blipFill>
        <p:spPr>
          <a:xfrm>
            <a:off x="2209680" y="4876920"/>
            <a:ext cx="13813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20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4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Marketing Appl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8"/>
          <p:cNvSpPr/>
          <p:nvPr/>
        </p:nvSpPr>
        <p:spPr>
          <a:xfrm>
            <a:off x="304920" y="28195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Blank Slide Available</a:t>
            </a: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for Teacher Ed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1295280"/>
            <a:ext cx="1670040" cy="785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0" y="380880"/>
            <a:ext cx="6553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NIT 4 REVIEW (ANSW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>
            <a:hlinkClick r:id="rId1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676520" y="121932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the components of the marketing m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Product, price, place and pro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02920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21:54:05Z</dcterms:created>
  <dc:creator>Copyright © 2009 by Sports Career Consulting, LLC</dc:creator>
  <dc:description/>
  <dc:language>en-US</dc:language>
  <cp:lastModifiedBy>Chris Lindauer</cp:lastModifiedBy>
  <dcterms:modified xsi:type="dcterms:W3CDTF">2020-08-14T23:44:27Z</dcterms:modified>
  <cp:revision>409</cp:revision>
  <dc:subject/>
  <dc:title>Examples of Sports Marketing</dc:title>
</cp:coreProperties>
</file>