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158-E992-4F76-915E-113D8362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82E-BBEB-4F4C-98FA-182EE08D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3A8-E314-4710-AB31-7182B207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21E-1166-4C1E-8846-84844F8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EDD-0370-4952-8299-D0E8034D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79E-5E54-4F21-A201-C3A55A88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5CF-115A-436E-9378-B02FDCE1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C4F-E601-4470-8809-9CDB0E7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224-B052-4416-8217-C2A59897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6BD-81B6-4C04-91F9-2EE3C818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DFB-3BE5-4B91-BEBA-5BE09D0C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DCA-86E8-40F3-9163-13CB63A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5B00-149A-4AC2-B5AB-B3F12B96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50000">
                <a:srgbClr val="ffffff"/>
              </a:gs>
              <a:gs pos="100000">
                <a:srgbClr val="000000">
                  <a:alpha val="8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ports &amp; Entertainment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Year One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Unit 4 Student Handout:  Product Positioning 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990720"/>
            <a:ext cx="0" cy="769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90720"/>
            <a:ext cx="0" cy="769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8839080"/>
            <a:ext cx="350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Copyright © 2007 by Sports Career Consulting, LL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95280"/>
            <a:ext cx="5715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Verdana"/>
              </a:rPr>
              <a:t>Positioning Ma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s or services are grouped together on a positioning map where they are compared and contrasted in relation to one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276720"/>
            <a:ext cx="0" cy="45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57200" y="5638680"/>
            <a:ext cx="601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28195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High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51814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Client Entert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098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Lower level seats for Disney on 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352680"/>
            <a:ext cx="158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Luxury suite at an NFL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632448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Cheap Seats” at a minor league baseball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7315200"/>
            <a:ext cx="158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Night at the mov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257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Family F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8001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Low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5715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lub seats at an NBA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1:21:40Z</dcterms:created>
  <dc:creator>Copyright © 2007 by Sports Career Consulting, LLC</dc:creator>
  <dc:description/>
  <dc:language>en-US</dc:language>
  <cp:lastModifiedBy>Chris Lindauer</cp:lastModifiedBy>
  <dcterms:modified xsi:type="dcterms:W3CDTF">2007-09-04T02:46:25Z</dcterms:modified>
  <cp:revision>9</cp:revision>
  <dc:subject/>
  <dc:title>Slide 1</dc:title>
</cp:coreProperties>
</file>